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98D7-ABA7-40AD-A4F3-C6DD58C0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F3AB-4227-4DCB-934C-BB675C75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0C6-A824-41E4-B4FC-6202F35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F40-5808-4105-A7D0-AA6230B8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A97-8F87-4836-A401-946203FF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4E6-2CB8-42FD-A747-5F8A561A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C33-7F9B-4340-87CC-532888E5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C50-27BC-498A-B8E7-D93A9CFD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7EA-F544-4BE1-B366-B5720B7B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81D-86DA-4050-B807-901E3B8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D75-DF96-4541-BCC1-75986DD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6EF-69AE-4C1A-816E-66F85FE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90F-537D-45B3-9B45-B63F911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B94-8DBD-4CA4-BED3-68A0289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A3FD-05BE-4D0B-BF44-E88249396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57Z</dcterms:modified>
  <cp:revision>119</cp:revision>
  <dc:subject/>
  <dc:title>Museum of World Stuff</dc:title>
</cp:coreProperties>
</file>